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D0EB-4B4E-4406-B020-D300E967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27AC-A6FA-40C0-A417-7208CC4B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A980-2A0B-4D0B-B48E-899905D0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F66F-512B-47E3-9B9F-D4B884426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AB49-2FA3-4AF9-8A07-AF5957BC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7F6B-EDBC-4E8D-B6EC-8B857FD3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9684-8CC6-4CA0-9209-7EC6454A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9AAD-4CC9-4C37-8DF8-8B465643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5E2F-798C-4394-8A43-8CAEADEA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0163-533B-46EE-8EAA-74D18C09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8707-E1FA-41B6-85FD-F05803C5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5E28-767C-465F-87C4-8AC77050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33A4-4167-48D9-8877-81A814D4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05F5-11A4-44DA-A0AF-21241968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634E-E566-4920-99AA-1FECA76A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3C82-CD1D-42CC-B2AB-8A6C675F8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3076-54B5-48A5-8A30-0C8FB0B85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EF6D-2947-4AA8-8067-549A6BD0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1B01-6C1C-407A-B435-EC3CD808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91B7-6CAB-41AF-B1FB-58A6D7EB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0612-0EB4-49CA-94B1-8BE791FF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F537-A64B-4969-A613-8C1C2BE4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7693-621F-449B-B816-AF98DBFB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1389-4382-427B-9EE0-6BC16E64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72AC-705A-4F98-8633-D1A2C1184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7D4B-D281-4D88-A2F3-235CE57D28C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第四章  保险承保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个人健康保险业务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健康状况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逆选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道德风险因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性别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工作经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生活习惯和生活方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个人意外伤害保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危险爱好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身体健康状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金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四、团体保险业务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新业务的核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团体的资格、团体的规模、团体成员的投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资格、团体的业务性质、参保率、团体成员的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动率、保险金额的确定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续保业务的核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团体的理赔经验、参保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五、财产保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性能或构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用途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环境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重要防护部位及防护措施状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检验有无正处于危险状态中的财产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检查各项安全管理制度的制定和执行情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四节  保险合同的保全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全的内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全的意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三、保全服务的内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单保全服务的基本作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附加价值服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咨询与投诉服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核保  续保  道德风险  心理风险保全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获取承保信息的主要渠道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核保中事前选择和事后选择的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道德风险 ？如何控制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心理风险？如何控制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个人寿险和团体寿险的核保要素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财产保险的核保要素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单保全服务的基本作业的内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一节  保险承保的基本程序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制定承保方针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获取和评价承保信息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主要渠道：投保单、中介人及其经营业绩、体检报告、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地区销售经理、消费者调查报告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审查核保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作出承保决定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五、单证管理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六、续保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二节  承保选择与承保控制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核保的概念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核保是指保险公司对可保风险进行评判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分类，进而决定是否承保、以什么样的条件承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分析过程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核保的内容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核保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事前核保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投保人或被保险人的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标的及其利益的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事后核保选择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核保控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控制道德风险的主要措施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控制保险金额，避免高额保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控制赔偿程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控制心理风险的主要措施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定免赔额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定共同保险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单中订入保证条款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4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续保优惠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5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其他优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三节  核保要素分析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个人寿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同健康有关的风险因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体格、 既往症、现症、家庭病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同健康无关的风险因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、习惯或嗜好、道德风险因素、财务状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31:05Z</dcterms:modified>
  <cp:revision>22</cp:revision>
  <dc:subject/>
  <dc:title>没有幻灯片标题</dc:title>
</cp:coreProperties>
</file>